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6CE-6F25-4897-A71C-0A0F234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BA9-DA3D-4F9A-8496-E29B3E8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118-CBDB-4E27-8BC8-40914F29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39F-A2E1-4D97-BCE5-B14C15D5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D60-4DB2-4890-85D0-95D5346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817-8DF3-4803-99E2-D670078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BE5-31DE-4FD9-BAB7-7F82A13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4BF-ECB0-47DF-A387-D6B8D12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69A-4A3F-442C-8DCB-F1A9449E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DDF-C9EC-49A1-8264-3433120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B27-012B-497B-B71E-E6F2BD6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2CC-15CE-4BAD-89FA-1FAE260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4060-6C89-4C36-830F-6AA9B3B6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and Music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ravaggio Supper at Emmaus"/>
          <p:cNvPicPr/>
          <p:nvPr/>
        </p:nvPicPr>
        <p:blipFill>
          <a:blip r:embed="rId1"/>
          <a:stretch/>
        </p:blipFill>
        <p:spPr>
          <a:xfrm>
            <a:off x="1676520" y="119160"/>
            <a:ext cx="66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fountain of Love"/>
          <p:cNvPicPr/>
          <p:nvPr/>
        </p:nvPicPr>
        <p:blipFill>
          <a:blip r:embed="rId1"/>
          <a:stretch/>
        </p:blipFill>
        <p:spPr>
          <a:xfrm>
            <a:off x="1523880" y="708120"/>
            <a:ext cx="632484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54:22Z</dcterms:created>
  <dc:creator>shoyer</dc:creator>
  <dc:description/>
  <dc:language>en-US</dc:language>
  <cp:lastModifiedBy>shoyer</cp:lastModifiedBy>
  <dcterms:modified xsi:type="dcterms:W3CDTF">2007-12-12T20:03:34Z</dcterms:modified>
  <cp:revision>1</cp:revision>
  <dc:subject/>
  <dc:title>Art and Music from the Enlightenment</dc:title>
</cp:coreProperties>
</file>